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AA0-6442-48B8-BA46-65FBFE58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E15-58F8-4D13-9C44-D867883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6F0-4D02-4EC3-8EF3-68F3FFA8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BEA-D7E6-4B85-B643-11E6C627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6C8-8D4F-420C-BE1D-A978C4C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535-20B0-4D72-9C9C-E371412D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C08-5B0A-4138-853C-F77E142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3A9-FC0D-43E7-849A-F4BD9C4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970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69B-2387-4BEA-89DA-3BD64DF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CFA-72C2-4E57-8B25-187C9E2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C31-E3CA-4730-B974-A1181C55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5E8-A39A-4E6F-8F6B-67A86B2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9f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BB3-831C-4B50-BAFB-178D9AB2CEE3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453000"/>
            <a:ext cx="5400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9f9f9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9f9f9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004-E8AC-4C29-BF09-404BBE0E520B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18240" y="6197760"/>
            <a:ext cx="468360" cy="46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064360" y="6200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2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1.png"/><Relationship Id="rId6" Type="http://schemas.openxmlformats.org/officeDocument/2006/relationships/image" Target="../media/image26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itronic.ch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80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9f9f"/>
                </a:solidFill>
                <a:latin typeface="Arial"/>
              </a:rPr>
              <a:t>Notruf- und Überwachungsgeräte </a:t>
            </a:r>
            <a:br>
              <a:rPr sz="4000"/>
            </a:br>
            <a:r>
              <a:rPr b="1" lang="en-US" sz="4000" spc="-1" strike="noStrike">
                <a:solidFill>
                  <a:srgbClr val="9f9f9f"/>
                </a:solidFill>
                <a:latin typeface="Arial"/>
              </a:rPr>
              <a:t>für alleine arbeitende Mitarbeiter</a:t>
            </a:r>
            <a:endParaRPr b="1" lang="en-US" sz="40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5057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FACHTAG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Erfa Groupe Ostschwe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808360" cy="201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1800000">
            <a:off x="5076360" y="3284640"/>
            <a:ext cx="76680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796680"/>
            <a:ext cx="829152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Sicherer Betrieb der Überwachungssyteme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103120"/>
            <a:ext cx="8362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skontrolle bei der Inbetriebnahm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ontrolle der Empfangsverhältnisse! Bei grösseren oder mehrgeschossigen Überwachungsbereichen sind folgende Ergänzungen sinnv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satz von Funk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satz von mehreren Empfän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gelmässige Kontrolle während des Betri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armsensoren (Lagesensor, Notrufta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(Kontrollanru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stalarm =&gt; Alarm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chulung/Instruktion der involvierten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Technische Angaben zu EasyAlarm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aloges Telefonwahlgerät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mit sprachbegleiteter Benutzerfüh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ählt bis zu 9 Rufnumm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bindungsar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reisprech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dividuelle Ansage / Alarmgrund / Instruktion für Alarmquit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ger-Alarm: numeris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larmprotokoll Ademco Point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armaus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ge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äsenzüberwa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tzausfallüberwa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ernwartung/Fernwi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31164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Ausführungsvariante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t 1:  kontinuierliche Überwa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EasyAlarm EA-8-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xterner Funkempfä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otmann-Lagesensor (mit Gurt-Tragtas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rweiterbar auf max. 3 Totmann-Lage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rweiterbar mit Funk-Repeatern (mehr Funk-Reichwe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t 2:  periodische Überwach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EasyAlarm EA-80-433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it integriertem Funkempfä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unk-Ta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wegungsm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30V-Euro-Stecker-Schaltausg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0360" y="1916280"/>
            <a:ext cx="2782800" cy="936360"/>
            <a:chOff x="5940360" y="1916280"/>
            <a:chExt cx="2782800" cy="9363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940360" y="1987560"/>
              <a:ext cx="1117800" cy="7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164360" y="1987560"/>
              <a:ext cx="100980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8317080" y="1916280"/>
              <a:ext cx="40608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435640" y="4869000"/>
            <a:ext cx="3355920" cy="1036080"/>
            <a:chOff x="5435640" y="4869000"/>
            <a:chExt cx="3355920" cy="103608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7524720" y="4869000"/>
              <a:ext cx="447840" cy="9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8101080" y="4940280"/>
              <a:ext cx="69048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6659640" y="5084640"/>
              <a:ext cx="689040" cy="7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435640" y="5084640"/>
              <a:ext cx="1127160" cy="74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Telefonanschlussvariante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genständiger Anschluss 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t oder interner Teilneh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ender Anschluss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en mit einem bestehenden Teilnehmer (Fax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urchschlaufen des Amtsanschlusses durch das Notruf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Notruf hat Priorität und das Notrufgerät trennt bei Bed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tion: DECT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P-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tion: GSM-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lls kein Telefonanschluss vorh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67640" y="2565360"/>
            <a:ext cx="287280" cy="287280"/>
            <a:chOff x="7667640" y="2565360"/>
            <a:chExt cx="287280" cy="287280"/>
          </a:xfrm>
        </p:grpSpPr>
        <p:sp>
          <p:nvSpPr>
            <p:cNvPr id="120" name=""/>
            <p:cNvSpPr/>
            <p:nvPr/>
          </p:nvSpPr>
          <p:spPr>
            <a:xfrm>
              <a:off x="7667640" y="2565360"/>
              <a:ext cx="28728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67640" y="2565360"/>
              <a:ext cx="28728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40360" y="4005360"/>
            <a:ext cx="4537080" cy="788760"/>
            <a:chOff x="4140360" y="4005360"/>
            <a:chExt cx="4537080" cy="7887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948360" y="4005360"/>
              <a:ext cx="5907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796000" y="4005360"/>
              <a:ext cx="936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7740720" y="4005360"/>
              <a:ext cx="936720" cy="7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4140360" y="4076640"/>
              <a:ext cx="10810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V="1">
              <a:off x="5219640" y="4508640"/>
              <a:ext cx="865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64000" y="2276640"/>
            <a:ext cx="3529080" cy="718560"/>
            <a:chOff x="5364000" y="2276640"/>
            <a:chExt cx="3529080" cy="718560"/>
          </a:xfrm>
        </p:grpSpPr>
        <p:sp>
          <p:nvSpPr>
            <p:cNvPr id="129" name=""/>
            <p:cNvSpPr/>
            <p:nvPr/>
          </p:nvSpPr>
          <p:spPr>
            <a:xfrm>
              <a:off x="7464240" y="272700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8051760" y="2306520"/>
              <a:ext cx="8413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64000" y="23652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0600" y="2728800"/>
              <a:ext cx="8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6516720" y="2276640"/>
              <a:ext cx="1081080" cy="71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516720" y="4724280"/>
            <a:ext cx="2074680" cy="1297080"/>
            <a:chOff x="6516720" y="4724280"/>
            <a:chExt cx="2074680" cy="1297080"/>
          </a:xfrm>
        </p:grpSpPr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7885080" y="4724280"/>
              <a:ext cx="7063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6516720" y="5084640"/>
              <a:ext cx="10810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524720" y="558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6516720" y="141300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Zubehör für die lokale (Vor)-Signalis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etzgerät mit integrierter Sirene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challdruck &gt; 100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etzgerät mit Eurostecker-Ausgang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230V-Verbraucher (z.B. Drehlic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IN-Interface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Relais-Schaltausgang 4A/230V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67640" y="3068640"/>
            <a:ext cx="88884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740720" y="1341360"/>
            <a:ext cx="111420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596360" y="4797360"/>
            <a:ext cx="115092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Fragen / Demonstr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nformationsbroschüren liegen 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ystemdemonstration (Mittagsp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Nach der Tag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fo-Line </a:t>
            </a:r>
            <a:r>
              <a:rPr b="1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056 648 40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Kurzinform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van Tog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-Ing. HT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ührer bei Leitronic AG (seit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ronic AG (seit 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ndort: Zufik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 und Fabrikation industrieller Elektronik mit Schwerpun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algeräte im Zentralenberei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161, Prüfgeräte, Ausfallschutzsyste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lefonalarmgeräte (über 50‘000 Installati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MAN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ufzugsnotruf: EasyAlarm ELEVATOR, EXICAL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abyphone per Telefon: bébétel (Festnetz- und Mobil-Betri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kehrsleittechnik (Ampelsteuer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eitronic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44000" y="5013360"/>
            <a:ext cx="4683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468360" cy="30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244000" y="414972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244000" y="4581360"/>
            <a:ext cx="468360" cy="4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Vorschriften (SUVA, SBA 150.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Überwachungsvarian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Alarm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Sicherer Betrieb der Überwachungssyt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Informationen zu EasyAl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Vorschriften (SUVA, SBA 150.d)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Gefahrenanaly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der Gefahren am Arbeits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der wahrscheinlichen Verletzungen und kritischen Situ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aximalen Zeitspanne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für Erste Hil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s Zustandes des Verunfal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Maximale Zeitspanne für Erste Hilfe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nur wenige Minuten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Kein Einzelarbeitsplatz 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¼ bis 1 h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Kontinuierlich durch Überwachungsanla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 wird automatisch ausgelö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m Ausbleiben von Körperbewe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rch horizontale Lage des Kontrollgerätes (Lagesen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1 bis 4 h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iodisch durch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Überwachungs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arm wird automatisch ausgelöst, wen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 in vorgegebenen Zeitabständen ausgelöster Voralarm nicht quittiert wird (z.B. Reaktion auf das Klingeln des Telefons am Einzelarbeitspl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Kontinuierliche Überwachung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35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41917" b="0"/>
          <a:stretch/>
        </p:blipFill>
        <p:spPr>
          <a:xfrm>
            <a:off x="6300720" y="3357720"/>
            <a:ext cx="2594160" cy="278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484360" y="1413000"/>
            <a:ext cx="5077080" cy="1314360"/>
            <a:chOff x="2484360" y="1413000"/>
            <a:chExt cx="5077080" cy="131436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6300720" y="1700280"/>
              <a:ext cx="5907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643640" y="1555920"/>
              <a:ext cx="14396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7020000" y="1413000"/>
              <a:ext cx="5414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11640" y="184464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484360" y="1484280"/>
              <a:ext cx="1872000" cy="12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95280" y="285264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larmaus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tomatisch durch Lagesensor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mporär deaktivierbar (5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ermanent deaktiv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nuell mit Notruf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rfordert keinerlei Inter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eignet auch für grössere Ob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Lageüberwachung 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44184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Periodische Überwachung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96856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äsenzüberwachung wird neu gestar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Bewegung registriert wi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Funk-Taste betätig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al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ufe 1: Signaltöne am Wählger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ufe 2: Aktivierung 230V-Schaltausgang (Drehlicht, Sir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alarm abgelaufen </a:t>
            </a:r>
            <a:r>
              <a:rPr b="0" lang="de-CH" sz="2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Telefonalarm begin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etätigung der Funk-Taste quittiert Alarm/Vorala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rfordert Interaktionen der geschützten Perso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Geeignet für kleinere Objekte (wegen der Voralarmsignalis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92360" y="1700280"/>
            <a:ext cx="1454040" cy="864720"/>
            <a:chOff x="1692360" y="1700280"/>
            <a:chExt cx="1454040" cy="8647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692360" y="1700280"/>
              <a:ext cx="8222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556000" y="1844640"/>
              <a:ext cx="590400" cy="72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076720" y="1197000"/>
            <a:ext cx="3117960" cy="2062080"/>
            <a:chOff x="5076720" y="1197000"/>
            <a:chExt cx="3117960" cy="2062080"/>
          </a:xfrm>
        </p:grpSpPr>
        <p:grpSp>
          <p:nvGrpSpPr>
            <p:cNvPr id="79" name=""/>
            <p:cNvGrpSpPr/>
            <p:nvPr/>
          </p:nvGrpSpPr>
          <p:grpSpPr>
            <a:xfrm>
              <a:off x="6302520" y="1197000"/>
              <a:ext cx="1892160" cy="2062080"/>
              <a:chOff x="6302520" y="1197000"/>
              <a:chExt cx="1892160" cy="2062080"/>
            </a:xfrm>
          </p:grpSpPr>
          <p:pic>
            <p:nvPicPr>
              <p:cNvPr id="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26520" y="1197000"/>
                <a:ext cx="66816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0520" y="2494080"/>
                <a:ext cx="8748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flipH="1" flipV="1">
                <a:off x="6302520" y="2277720"/>
                <a:ext cx="1008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375240" y="1917720"/>
                <a:ext cx="10796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5581800" y="1411200"/>
              <a:ext cx="876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076720" y="17715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059280" y="1341360"/>
            <a:ext cx="2376360" cy="1577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3640" y="1557360"/>
            <a:ext cx="100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i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75640" y="3141720"/>
            <a:ext cx="217440" cy="309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2492280"/>
            <a:ext cx="21744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75640" y="2492280"/>
            <a:ext cx="216000" cy="3745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75640" y="1916280"/>
            <a:ext cx="217440" cy="56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75640" y="1484280"/>
            <a:ext cx="217440" cy="419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75640" y="981000"/>
            <a:ext cx="217440" cy="48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32000" y="1341360"/>
            <a:ext cx="1236600" cy="1495440"/>
            <a:chOff x="1332000" y="1341360"/>
            <a:chExt cx="1236600" cy="1495440"/>
          </a:xfrm>
        </p:grpSpPr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1332000" y="1414440"/>
              <a:ext cx="522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1835280" y="1341360"/>
              <a:ext cx="733320" cy="14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119232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9" nodeType="afterEffect" fill="hold" presetClass="entr" presetID="5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Alarmmanagemen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4358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rne Stellen </a:t>
            </a:r>
            <a:br>
              <a:rPr sz="28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z. B. Zentrale, Portierloge, „paralleler Arbeitsplatz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dentifikation (durch Klartextan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ersönliche Gesprächsfüh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mpfangsbestätigung </a:t>
            </a:r>
            <a:r>
              <a:rPr b="0" lang="de-CH" sz="20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Ersatzziele werden nicht angewäh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xterne Pikettzentrale oder Bewachungsorganisation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z. B. Certas, Securitas, Daru-Wach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tokollübertragung (z.B. Ademco Point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484280"/>
            <a:ext cx="8424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Alarmorganisation muss gewährleisten, dass die alleine arbeitende Person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nert nützlicher Frist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, d.h. innerhalb der ermittelten Zeitspanne, Hilfe erhä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0:09:25Z</dcterms:created>
  <dc:creator>Silvan Tognella</dc:creator>
  <dc:description/>
  <dc:language>en-US</dc:language>
  <cp:lastModifiedBy>Silvan Tognella</cp:lastModifiedBy>
  <dcterms:modified xsi:type="dcterms:W3CDTF">2006-11-27T07:55:47Z</dcterms:modified>
  <cp:revision>422</cp:revision>
  <dc:subject/>
  <dc:title>Stand der Technik von Notrufeinrichtungen</dc:title>
</cp:coreProperties>
</file>