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29.png" ContentType="image/png"/>
  <Override PartName="/ppt/media/image1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5F7-B2E9-46B7-94AF-343ED8D0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228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873-82BD-491D-9F8D-E04C7248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096-88A4-46F5-A2BC-3313CCF1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BB2-52CF-4590-B045-F85CE352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6A59-F019-49FA-88C1-9B9FE29B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0F3-8CD4-4EA5-AF18-2CA59B07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3F9-53CD-4B10-BBC7-4FA74CC3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57A-CD43-4F3B-A863-8CB47414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97040"/>
            <a:ext cx="82296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3422-602A-4D65-A2A8-A05C4CB0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586-B82A-484E-AACF-ACDE76A1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2C1-499D-4DCF-A392-A9627D61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47E-C4A0-47CA-A00C-CC4033BB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f9f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909B-EB7B-4475-A96C-531EDCE8DADF}" type="datetime">
              <a:rPr b="0" lang="de-DE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ww.leitronic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640" y="6453000"/>
            <a:ext cx="5400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9f9f9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9f9f9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CD47-A331-4863-AB65-28343F4D90F3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18240" y="6197760"/>
            <a:ext cx="468360" cy="46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064360" y="620064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23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1.png"/><Relationship Id="rId6" Type="http://schemas.openxmlformats.org/officeDocument/2006/relationships/image" Target="../media/image26.png"/><Relationship Id="rId7" Type="http://schemas.openxmlformats.org/officeDocument/2006/relationships/image" Target="../media/image11.png"/><Relationship Id="rId8" Type="http://schemas.openxmlformats.org/officeDocument/2006/relationships/image" Target="../media/image2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itronic.ch/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1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2803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f9f9f"/>
                </a:solidFill>
                <a:latin typeface="Arial"/>
              </a:rPr>
              <a:t>Notruf- und Überwachungsgeräte </a:t>
            </a:r>
            <a:br>
              <a:rPr sz="4000"/>
            </a:br>
            <a:r>
              <a:rPr b="1" lang="en-US" sz="4000" spc="-1" strike="noStrike">
                <a:solidFill>
                  <a:srgbClr val="9f9f9f"/>
                </a:solidFill>
                <a:latin typeface="Arial"/>
              </a:rPr>
              <a:t>für alleine arbeitende Mitarbeiter</a:t>
            </a:r>
            <a:endParaRPr b="1" lang="en-US" sz="40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7280" y="505728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FACHTAG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Erfa Groupe Ostschwe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2808360" cy="2019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 rot="1800000">
            <a:off x="5076360" y="3284640"/>
            <a:ext cx="766800" cy="17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796680"/>
            <a:ext cx="829152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Sicherer Betrieb der Überwachungssyteme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2103120"/>
            <a:ext cx="8362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unktionskontrolle bei der Inbetriebnahm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Kontrolle der Empfangsverhältnisse! Bei grösseren oder mehrgeschossigen Überwachungsbereichen sind folgende Ergänzungen sinnv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insatz von Funk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insatz von mehreren Empfän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Regelmässige Kontrolle während des Betrie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armsensoren (Lagesensor, Notruftas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ählgerät (Kontrollanru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estalarm =&gt; Alarm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chulung/Instruktion der involvierten Mitarbe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Technische Angaben zu EasyAlarm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aloges Telefonwahlgerät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(mit sprachbegleiteter Benutzerführ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Wählt bis zu 9 Rufnumm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bindungsart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reisprechverbin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ndividuelle Ansage / Alarmgrund / Instruktion für Alarmquit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ger-Alarm: numeris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Alarmprotokoll Ademco Point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armauslös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gesen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äsenzüberwa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otr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tzausfallüberwach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funkti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ernwartung/Fernwirk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435640" y="3573360"/>
            <a:ext cx="3311640" cy="219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80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Ausführungsvarianten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et 1:  kontinuierliche Überwach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ählgerät EasyAlarm EA-8-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xterner Funkempfäng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otmann-Lagesensor (mit Gurt-Tragtasch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rweiterbar auf max. 3 Totmann-Lagesenso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rweiterbar mit Funk-Repeatern (mehr Funk-Reichwe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et 2:  periodische Überwachu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ählgerät EasyAlarm EA-80-433 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it integriertem Funkempfä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unk-Tas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wegungsme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30V-Euro-Stecker-Schaltausg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940360" y="1916280"/>
            <a:ext cx="2782800" cy="936360"/>
            <a:chOff x="5940360" y="1916280"/>
            <a:chExt cx="2782800" cy="93636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5940360" y="1987560"/>
              <a:ext cx="1117800" cy="75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3"/>
            <a:stretch/>
          </p:blipFill>
          <p:spPr>
            <a:xfrm>
              <a:off x="7164360" y="1987560"/>
              <a:ext cx="1009800" cy="77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8317080" y="1916280"/>
              <a:ext cx="406080" cy="93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435640" y="4869000"/>
            <a:ext cx="3355920" cy="1036080"/>
            <a:chOff x="5435640" y="4869000"/>
            <a:chExt cx="3355920" cy="1036080"/>
          </a:xfrm>
        </p:grpSpPr>
        <p:pic>
          <p:nvPicPr>
            <p:cNvPr id="113" name="" descr=""/>
            <p:cNvPicPr/>
            <p:nvPr/>
          </p:nvPicPr>
          <p:blipFill>
            <a:blip r:embed="rId5"/>
            <a:stretch/>
          </p:blipFill>
          <p:spPr>
            <a:xfrm>
              <a:off x="7524720" y="4869000"/>
              <a:ext cx="447840" cy="99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6"/>
            <a:stretch/>
          </p:blipFill>
          <p:spPr>
            <a:xfrm>
              <a:off x="8101080" y="4940280"/>
              <a:ext cx="690480" cy="96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7"/>
            <a:stretch/>
          </p:blipFill>
          <p:spPr>
            <a:xfrm>
              <a:off x="6659640" y="5084640"/>
              <a:ext cx="689040" cy="72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8"/>
            <a:stretch/>
          </p:blipFill>
          <p:spPr>
            <a:xfrm>
              <a:off x="5435640" y="5084640"/>
              <a:ext cx="1127160" cy="74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Telefonanschlussvarianten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07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igenständiger Anschluss 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mt oder interner Teilneh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stehender Anschluss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ilen mit einem bestehenden Teilnehmer (Fax)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Durchschlaufen des Amtsanschlusses durch das Notruf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Der Notruf hat Priorität und das Notrufgerät trennt bei Bed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ption: DECT</a:t>
            </a:r>
            <a:br>
              <a:rPr sz="32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P-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ption: GSM-Inte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alls kein Telefonanschluss vorh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67640" y="2565360"/>
            <a:ext cx="287280" cy="287280"/>
            <a:chOff x="7667640" y="2565360"/>
            <a:chExt cx="287280" cy="287280"/>
          </a:xfrm>
        </p:grpSpPr>
        <p:sp>
          <p:nvSpPr>
            <p:cNvPr id="120" name=""/>
            <p:cNvSpPr/>
            <p:nvPr/>
          </p:nvSpPr>
          <p:spPr>
            <a:xfrm>
              <a:off x="7667640" y="2565360"/>
              <a:ext cx="287280" cy="28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7667640" y="2565360"/>
              <a:ext cx="287280" cy="28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140360" y="4005360"/>
            <a:ext cx="4537080" cy="788760"/>
            <a:chOff x="4140360" y="4005360"/>
            <a:chExt cx="4537080" cy="78876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6948360" y="4005360"/>
              <a:ext cx="5907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5796000" y="4005360"/>
              <a:ext cx="93672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7740720" y="4005360"/>
              <a:ext cx="936720" cy="70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5"/>
            <a:stretch/>
          </p:blipFill>
          <p:spPr>
            <a:xfrm>
              <a:off x="4140360" y="4076640"/>
              <a:ext cx="10810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flipV="1">
              <a:off x="5219640" y="4508640"/>
              <a:ext cx="865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64000" y="2276640"/>
            <a:ext cx="3529080" cy="718560"/>
            <a:chOff x="5364000" y="2276640"/>
            <a:chExt cx="3529080" cy="718560"/>
          </a:xfrm>
        </p:grpSpPr>
        <p:sp>
          <p:nvSpPr>
            <p:cNvPr id="129" name=""/>
            <p:cNvSpPr/>
            <p:nvPr/>
          </p:nvSpPr>
          <p:spPr>
            <a:xfrm>
              <a:off x="7464240" y="2727000"/>
              <a:ext cx="5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>
              <a:off x="8051760" y="2306520"/>
              <a:ext cx="84132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364000" y="2365200"/>
              <a:ext cx="9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de-CH" sz="1800" spc="-1" strike="noStrike">
                  <a:solidFill>
                    <a:srgbClr val="000000"/>
                  </a:solidFill>
                  <a:latin typeface="Arial"/>
                </a:rPr>
                <a:t>Am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00600" y="2728800"/>
              <a:ext cx="84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7"/>
            <a:stretch/>
          </p:blipFill>
          <p:spPr>
            <a:xfrm>
              <a:off x="6516720" y="2276640"/>
              <a:ext cx="1081080" cy="71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"/>
          <p:cNvGrpSpPr/>
          <p:nvPr/>
        </p:nvGrpSpPr>
        <p:grpSpPr>
          <a:xfrm>
            <a:off x="6516720" y="4724280"/>
            <a:ext cx="2074680" cy="1297080"/>
            <a:chOff x="6516720" y="4724280"/>
            <a:chExt cx="2074680" cy="1297080"/>
          </a:xfrm>
        </p:grpSpPr>
        <p:pic>
          <p:nvPicPr>
            <p:cNvPr id="135" name="" descr=""/>
            <p:cNvPicPr/>
            <p:nvPr/>
          </p:nvPicPr>
          <p:blipFill>
            <a:blip r:embed="rId8"/>
            <a:stretch/>
          </p:blipFill>
          <p:spPr>
            <a:xfrm>
              <a:off x="7885080" y="4724280"/>
              <a:ext cx="70632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9"/>
            <a:stretch/>
          </p:blipFill>
          <p:spPr>
            <a:xfrm>
              <a:off x="6516720" y="5084640"/>
              <a:ext cx="10810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7524720" y="55879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6516720" y="141300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Zubehör für die lokale (Vor)-Signalisation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Netzgerät mit integrierter Sirene</a:t>
            </a:r>
            <a:br>
              <a:rPr sz="32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challdruck &gt; 100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Netzgerät mit Eurostecker-Ausgang</a:t>
            </a:r>
            <a:br>
              <a:rPr sz="32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230V-Verbraucher (z.B. Drehlic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DIN-Interface</a:t>
            </a:r>
            <a:br>
              <a:rPr sz="3200"/>
            </a:b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Relais-Schaltausgang 4A/230V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67640" y="3068640"/>
            <a:ext cx="888840" cy="144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740720" y="1341360"/>
            <a:ext cx="111420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7596360" y="4797360"/>
            <a:ext cx="1150920" cy="11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Fragen / Demonstration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Informationsbroschüren liegen au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Systemdemonstration (Mittagsp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Nach der Tag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Info-Line </a:t>
            </a:r>
            <a:r>
              <a:rPr b="1" lang="de-CH" sz="28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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 056 648 40 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www.leitronic.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Refere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Kurzinformation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f9f9f"/>
                </a:solidFill>
                <a:latin typeface="Arial"/>
              </a:rPr>
              <a:t>RE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ilvan Togn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-Ing. HT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führer bei Leitronic AG (seit 199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f9f9f"/>
                </a:solidFill>
                <a:latin typeface="Arial"/>
              </a:rPr>
              <a:t>F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ronic AG (seit 196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andort: Zufik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wicklung und Fabrikation industrieller Elektronik mit Schwerpunk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algeräte im Zentralenbereich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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161, Prüfgeräte, Ausfallschutzsyste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elefonalarmgeräte (über 50‘000 Installatio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Personenschutz: EasyAlarm SEN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Personenschutz: EasyAlarm MAN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Aufzugsnotruf: EasyAlarm ELEVATOR, EXICALL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Babyphone per Telefon: bébétel (Festnetz- und Mobil-Betri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Verkehrsleittechnik (Ampelsteuer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eitronic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44000" y="5013360"/>
            <a:ext cx="468360" cy="642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8244000" y="5661000"/>
            <a:ext cx="468360" cy="301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244000" y="4149720"/>
            <a:ext cx="468360" cy="468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244000" y="4581360"/>
            <a:ext cx="468360" cy="4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Inhalt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Vorschriften (SUVA, SBA 150.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Überwachungsvarian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Alarm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Sicherer Betrieb der Überwachungssyt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Informationen zu EasyAl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Fr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3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Vorschriften (SUVA, SBA 150.d)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67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Gefahrenanaly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Ermittlung der Gefahren am Arbeitspl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Ermittlung der wahrscheinlichen Verletzungen und kritischen Situatio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Ermittlu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maximalen Zeitspanne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für Erste Hil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es Zustandes des Verunfal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Maximale Zeitspanne für Erste Hilfe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Zeitspanne nur wenige Minuten 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Kein Einzelarbeitsplatz 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Zeitspanne ¼ bis 1 h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Kontinuierlich durch Überwachungsanlag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arm wird automatisch ausgelö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m Ausbleiben von Körperbeweg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urch horizontale Lage des Kontrollgerätes (Lagesens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Zeitspanne 1 bis 4 h</a:t>
            </a:r>
            <a:br>
              <a:rPr sz="2800"/>
            </a:b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8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eriodisch durch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Überwachungs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arm wird automatisch ausgelöst, wenn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 in vorgegebenen Zeitabständen ausgelöster Voralarm nicht quittiert wird (z.B. Reaktion auf das Klingeln des Telefons am Einzelarbeitspla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Kontinuierliche Überwachung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352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0" r="41917" b="0"/>
          <a:stretch/>
        </p:blipFill>
        <p:spPr>
          <a:xfrm>
            <a:off x="6300720" y="3357720"/>
            <a:ext cx="2594160" cy="2788920"/>
          </a:xfrm>
          <a:prstGeom prst="rect">
            <a:avLst/>
          </a:prstGeom>
          <a:ln w="0">
            <a:noFill/>
          </a:ln>
        </p:spPr>
      </p:pic>
      <p:grpSp>
        <p:nvGrpSpPr>
          <p:cNvPr id="62" name=""/>
          <p:cNvGrpSpPr/>
          <p:nvPr/>
        </p:nvGrpSpPr>
        <p:grpSpPr>
          <a:xfrm>
            <a:off x="2484360" y="1413000"/>
            <a:ext cx="5077080" cy="1314360"/>
            <a:chOff x="2484360" y="1413000"/>
            <a:chExt cx="5077080" cy="1314360"/>
          </a:xfrm>
        </p:grpSpPr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6300720" y="1700280"/>
              <a:ext cx="5907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4643640" y="1555920"/>
              <a:ext cx="1439640" cy="108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7020000" y="1413000"/>
              <a:ext cx="5414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211640" y="1844640"/>
              <a:ext cx="50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484360" y="1484280"/>
              <a:ext cx="1872000" cy="12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"/>
          <p:cNvSpPr/>
          <p:nvPr/>
        </p:nvSpPr>
        <p:spPr>
          <a:xfrm>
            <a:off x="395280" y="2852640"/>
            <a:ext cx="8280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2637000"/>
            <a:ext cx="82296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larmauslös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utomatisch durch Lagesensor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emporär deaktivierbar (5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ermanent deaktivier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ITC Zapf Dingbats SWA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nuell mit Notruft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rfordert keinerlei Intera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Geeignet auch für grössere Obj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Lageüberwachung 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1391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32000" y="1484280"/>
            <a:ext cx="6441840" cy="468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Periodische Überwachung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968560"/>
            <a:ext cx="828036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äsenzüberwachung wird neu gestar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nn Bewegung registriert wi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nn Funk-Taste betätigt w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al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ufe 1: Signaltöne am Wählger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ufe 2: Aktivierung 230V-Schaltausgang (Drehlicht, Sire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alarm abgelaufen </a:t>
            </a:r>
            <a:r>
              <a:rPr b="0" lang="de-CH" sz="24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Telefonalarm begin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Hinwei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Betätigung der Funk-Taste quittiert Alarm/Voralar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Erfordert Interaktionen der geschützten Person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Geeignet für kleinere Objekte (wegen der Voralarmsignalis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692360" y="1700280"/>
            <a:ext cx="1454040" cy="864720"/>
            <a:chOff x="1692360" y="1700280"/>
            <a:chExt cx="1454040" cy="86472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692360" y="1700280"/>
              <a:ext cx="82224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2556000" y="1844640"/>
              <a:ext cx="590400" cy="72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5076720" y="1197000"/>
            <a:ext cx="3117960" cy="2062080"/>
            <a:chOff x="5076720" y="1197000"/>
            <a:chExt cx="3117960" cy="2062080"/>
          </a:xfrm>
        </p:grpSpPr>
        <p:grpSp>
          <p:nvGrpSpPr>
            <p:cNvPr id="79" name=""/>
            <p:cNvGrpSpPr/>
            <p:nvPr/>
          </p:nvGrpSpPr>
          <p:grpSpPr>
            <a:xfrm>
              <a:off x="6302520" y="1197000"/>
              <a:ext cx="1892160" cy="2062080"/>
              <a:chOff x="6302520" y="1197000"/>
              <a:chExt cx="1892160" cy="2062080"/>
            </a:xfrm>
          </p:grpSpPr>
          <p:pic>
            <p:nvPicPr>
              <p:cNvPr id="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526520" y="1197000"/>
                <a:ext cx="668160" cy="10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310520" y="2494080"/>
                <a:ext cx="8748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flipH="1" flipV="1">
                <a:off x="6302520" y="2277720"/>
                <a:ext cx="100800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6375240" y="1917720"/>
                <a:ext cx="107964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" name="" descr=""/>
            <p:cNvPicPr/>
            <p:nvPr/>
          </p:nvPicPr>
          <p:blipFill>
            <a:blip r:embed="rId6"/>
            <a:stretch/>
          </p:blipFill>
          <p:spPr>
            <a:xfrm>
              <a:off x="5581800" y="1411200"/>
              <a:ext cx="87624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076720" y="177156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3059280" y="1341360"/>
            <a:ext cx="2376360" cy="1577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03640" y="1557360"/>
            <a:ext cx="1008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Pi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675640" y="3141720"/>
            <a:ext cx="217440" cy="309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675640" y="2492280"/>
            <a:ext cx="217440" cy="374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75640" y="2492280"/>
            <a:ext cx="216000" cy="3745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75640" y="1916280"/>
            <a:ext cx="217440" cy="56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675640" y="1484280"/>
            <a:ext cx="217440" cy="419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675640" y="981000"/>
            <a:ext cx="217440" cy="48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332000" y="1341360"/>
            <a:ext cx="1236600" cy="1495440"/>
            <a:chOff x="1332000" y="1341360"/>
            <a:chExt cx="1236600" cy="1495440"/>
          </a:xfrm>
        </p:grpSpPr>
        <p:pic>
          <p:nvPicPr>
            <p:cNvPr id="95" name="" descr=""/>
            <p:cNvPicPr/>
            <p:nvPr/>
          </p:nvPicPr>
          <p:blipFill>
            <a:blip r:embed="rId8"/>
            <a:stretch/>
          </p:blipFill>
          <p:spPr>
            <a:xfrm>
              <a:off x="1332000" y="1414440"/>
              <a:ext cx="52236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9"/>
            <a:stretch/>
          </p:blipFill>
          <p:spPr>
            <a:xfrm>
              <a:off x="1835280" y="1341360"/>
              <a:ext cx="733320" cy="149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1258920" y="1557360"/>
            <a:ext cx="1192320" cy="107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9" nodeType="afterEffect" fill="hold" presetClass="entr" presetID="55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4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7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0"/>
                            </p:stCondLst>
                            <p:childTnLst>
                              <p:par>
                                <p:cTn id="3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9f9f9f"/>
                </a:solidFill>
                <a:latin typeface="Arial"/>
              </a:rPr>
              <a:t>Alarmmanagement</a:t>
            </a:r>
            <a:endParaRPr b="1" lang="en-US" sz="36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3212640"/>
            <a:ext cx="843588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Interne Stellen </a:t>
            </a:r>
            <a:br>
              <a:rPr sz="28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(z. B. Zentrale, Portierloge, „paralleler Arbeitsplatz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dentifikation (durch Klartextan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ersönliche Gesprächsführ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mpfangsbestätigung </a:t>
            </a:r>
            <a:r>
              <a:rPr b="0" lang="de-CH" sz="20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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Ersatzziele werden nicht angewäh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xterne Pikettzentrale oder Bewachungsorganisation </a:t>
            </a:r>
            <a:br>
              <a:rPr sz="2400"/>
            </a:b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(z. B. Certas, Securitas, Daru-Wach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rotokollübertragung (z.B. Ademco Point 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484280"/>
            <a:ext cx="8424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Alarmorganisation muss gewährleisten, dass die alleine arbeitende Person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innert nützlicher Frist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, d.h. innerhalb der ermittelten Zeitspanne, Hilfe erhäl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agung Erfa Fachgruppe Ostschweiz vom 24. 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0:09:25Z</dcterms:created>
  <dc:creator>Silvan Tognella</dc:creator>
  <dc:description/>
  <dc:language>en-US</dc:language>
  <cp:lastModifiedBy>Silvan Tognella</cp:lastModifiedBy>
  <dcterms:modified xsi:type="dcterms:W3CDTF">2006-11-27T07:55:47Z</dcterms:modified>
  <cp:revision>422</cp:revision>
  <dc:subject/>
  <dc:title>Stand der Technik von Notrufeinrichtungen</dc:title>
</cp:coreProperties>
</file>