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5.jpeg" ContentType="image/jpeg"/>
  <Override PartName="/ppt/media/image24.wmf" ContentType="image/x-wmf"/>
  <Override PartName="/ppt/media/image23.gif" ContentType="image/gif"/>
  <Override PartName="/ppt/media/image3.jpeg" ContentType="image/jpeg"/>
  <Override PartName="/ppt/media/image15.png" ContentType="image/png"/>
  <Override PartName="/ppt/media/image22.png" ContentType="image/png"/>
  <Override PartName="/ppt/media/image20.wmf" ContentType="image/x-wmf"/>
  <Override PartName="/ppt/media/image18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0A9D-8011-4CD5-8CB3-F1E2B437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0DF-0DE3-461C-9989-41E0C14D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DB74-1DD9-4BFC-A20B-9B094228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BFF-958F-4ECD-BA35-E9A82150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50E-58FE-48DA-9B9B-36000795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C0FE-4E6E-4774-ABCF-ED02FC8B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1B9F-BE72-4505-9CC4-CD9111A1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B36-412A-4C20-A8A3-DE05BDA2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97040"/>
            <a:ext cx="82296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87C-6672-4C9B-9FF9-80BB4C68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2BC-E250-4C57-B028-8DD272AA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8AE3-9E79-43A7-BD77-56C6E7BF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931-E7D3-44E6-A1B0-12D24BF5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f9f9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AD7A-4018-44DC-8D05-8ABA1BC77428}" type="datetime">
              <a:rPr b="0" lang="de-DE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ww.leitronic.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9640" y="6308280"/>
            <a:ext cx="5400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9f9f9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9f9f9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1095-53A9-4718-94A5-FD4029EFED38}" type="slidenum">
              <a:rPr b="0" lang="de-CH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028000" y="6027840"/>
            <a:ext cx="468360" cy="641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518240" y="6197760"/>
            <a:ext cx="468360" cy="46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itronic.ch/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2.png"/><Relationship Id="rId6" Type="http://schemas.openxmlformats.org/officeDocument/2006/relationships/image" Target="../media/image6.png"/><Relationship Id="rId7" Type="http://schemas.openxmlformats.org/officeDocument/2006/relationships/image" Target="../media/image17.png"/><Relationship Id="rId8" Type="http://schemas.openxmlformats.org/officeDocument/2006/relationships/image" Target="../media/image7.png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052640"/>
            <a:ext cx="78469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f9f9f"/>
                </a:solidFill>
                <a:latin typeface="Arial"/>
              </a:rPr>
              <a:t>Stand der Technik von Notrufeinrichtungen </a:t>
            </a:r>
            <a:br>
              <a:rPr sz="3200"/>
            </a:br>
            <a:r>
              <a:rPr b="1" lang="en-US" sz="3200" spc="-1" strike="noStrike">
                <a:solidFill>
                  <a:srgbClr val="9f9f9f"/>
                </a:solidFill>
                <a:latin typeface="Arial"/>
              </a:rPr>
              <a:t>gemäss SE EN81-28</a:t>
            </a: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58920" y="393336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000000"/>
                </a:solidFill>
                <a:latin typeface="Arial"/>
              </a:rPr>
              <a:t>FACHTA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Schweizerischer Aufzugsvere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SAV-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3240000" cy="25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9f9f9f"/>
                </a:solidFill>
                <a:latin typeface="Arial"/>
              </a:rPr>
              <a:t>Notrufgerät aus Sicht des Aufzugbetreibers</a:t>
            </a:r>
            <a:endParaRPr b="1" lang="en-US" sz="28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ffene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Betreiber kann das Notrufsystem beibehalten, auch wenn er die Servicefirma wechselt =&gt; Freiheit bei der Aufschaltung!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ielseitige Identifikationsmög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prachansage (z. B. individueller Ansagetext oder Kommissions-N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rotokoll mit Service-Center (z. B. Win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rotokoll mit Alarmcenter nach internationalem Standard (z. B. Ademc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nimierung der Fix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arallelbetrieb von Notrufgeräten an einem Telefonanschl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zielle Notrufgeräte teilen das Amt mit einem bestehenden Anschluss (z. B. Telefon/Fax des Hauswarts oder Modem der Liftsteuerung)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Durchschlaufen des Amtsanschlusses durch das Notruf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Der Notruf hat Priorität und das Notrufgerät trennt bei Bedarf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eine bestehende Verbin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uverlässige und bewährte Notrufgeräte, damit der Aufzug jederzeit betrieben werden kan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148360" y="4365720"/>
            <a:ext cx="3025800" cy="573120"/>
            <a:chOff x="5148360" y="4365720"/>
            <a:chExt cx="3025800" cy="573120"/>
          </a:xfrm>
        </p:grpSpPr>
        <p:sp>
          <p:nvSpPr>
            <p:cNvPr id="99" name=""/>
            <p:cNvSpPr/>
            <p:nvPr/>
          </p:nvSpPr>
          <p:spPr>
            <a:xfrm>
              <a:off x="6948720" y="472428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148360" y="4365720"/>
              <a:ext cx="3025800" cy="573120"/>
              <a:chOff x="5148360" y="4365720"/>
              <a:chExt cx="3025800" cy="573120"/>
            </a:xfrm>
          </p:grpSpPr>
          <p:pic>
            <p:nvPicPr>
              <p:cNvPr id="1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58160" y="4365720"/>
                <a:ext cx="792000" cy="523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453440" y="4389480"/>
                <a:ext cx="720720" cy="54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5148360" y="443700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800" spc="-1" strike="noStrike">
                    <a:solidFill>
                      <a:srgbClr val="000000"/>
                    </a:solidFill>
                    <a:latin typeface="Arial"/>
                  </a:rPr>
                  <a:t>Am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437440" y="4726080"/>
                <a:ext cx="72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7020000" y="4581360"/>
            <a:ext cx="287280" cy="287640"/>
            <a:chOff x="7020000" y="4581360"/>
            <a:chExt cx="287280" cy="287640"/>
          </a:xfrm>
        </p:grpSpPr>
        <p:sp>
          <p:nvSpPr>
            <p:cNvPr id="106" name=""/>
            <p:cNvSpPr/>
            <p:nvPr/>
          </p:nvSpPr>
          <p:spPr>
            <a:xfrm>
              <a:off x="7020000" y="4581360"/>
              <a:ext cx="287280" cy="287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020000" y="4581360"/>
              <a:ext cx="287280" cy="287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4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5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0"/>
                            </p:stCondLst>
                            <p:childTnLst>
                              <p:par>
                                <p:cTn id="599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f9f9f"/>
                </a:solidFill>
                <a:latin typeface="Arial"/>
              </a:rPr>
              <a:t>Alarmierung über das GSM-Netz (Mobil-Netz)</a:t>
            </a:r>
            <a:endParaRPr b="1" lang="en-US" sz="28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075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Notruf über GSM ist eine kostengünstige Alternative zum Festnetz und der Aufzug kann schon während der Bauphase betrieben werden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edoch sind bezüglich der Verfügbarkeit /Zuverlässigkeit folgende Punkte zu beach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cherheits-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ndort der GSM-Antenne muss fix sei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z. B. im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aschinenraum). Damit ist eine stabile Empfangssituatio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währleistet =&gt; Das Mitfahren auf der Kabine ist gefährlich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 der Empfang je nach Standort der Kabine variiert bzw. i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Tiefgarage sogar total ausfallen k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lls der GSM-Empfang ungenügend ist bzw. ganz ausfällt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uss die Anlage automatisch ausser Betrieb gesetzt we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z. B. Befehl an die Liftsteuerung ins Erdgeschoss zu fah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sicht bei 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ai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Karten!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gebenenfalls ist im Alarmfall kein Guthaben vorhand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Abonnement oder automatische Nachladu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Anregung an den Verb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 Sicht der Aufzugsbetreiber wäre ein spezielles Notruf-A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 B. mit Flatrate wünschensw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405560" y="2492280"/>
            <a:ext cx="1738440" cy="31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8000"/>
                            </p:stCondLst>
                            <p:childTnLst>
                              <p:par>
                                <p:cTn id="62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f9f9f"/>
                </a:solidFill>
                <a:latin typeface="Arial"/>
              </a:rPr>
              <a:t>Fragen</a:t>
            </a: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 wem möchten Sie lieber im Lift stecken bleiben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340000" y="2205000"/>
            <a:ext cx="162396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211640" y="4653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oder            </a:t>
            </a: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rcRect l="31215" t="12461" r="29396" b="21258"/>
          <a:stretch/>
        </p:blipFill>
        <p:spPr>
          <a:xfrm>
            <a:off x="5148360" y="2205000"/>
            <a:ext cx="1312920" cy="3313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7164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4000"/>
                            </p:stCondLst>
                            <p:childTnLst>
                              <p:par>
                                <p:cTn id="6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7000"/>
                            </p:stCondLst>
                            <p:childTnLst>
                              <p:par>
                                <p:cTn id="6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7000"/>
                            </p:stCondLst>
                            <p:childTnLst>
                              <p:par>
                                <p:cTn id="6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f9f9f"/>
                </a:solidFill>
                <a:latin typeface="Arial"/>
              </a:rPr>
              <a:t>Kurzinformation</a:t>
            </a: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f9f9f"/>
                </a:solidFill>
                <a:latin typeface="Arial"/>
              </a:rPr>
              <a:t>RE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ilvan Togn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l-Ing. HT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chäftsführer bei Leitronic AG seit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f9f9f"/>
                </a:solidFill>
                <a:latin typeface="Arial"/>
              </a:rPr>
              <a:t>FI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itronic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ündung: 19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andort: Zufi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twicklung und Fabrikation industrieller Elektronik mit Schwerpunk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ezialgeräte im Zentralenbereich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1400" spc="-1" strike="noStrike">
                <a:solidFill>
                  <a:srgbClr val="000000"/>
                </a:solidFill>
                <a:latin typeface="ITC Zapf Dingbats SWA"/>
                <a:ea typeface="ITC Zapf Dingbats SWA"/>
              </a:rPr>
              <a:t>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161, Prüfgeräte, Ausfallschutzsystem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elefonalarm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Aufzugsnotruf: EasyAlarm ELEVATOR, EXICALL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Personenschutz: EasyAlarm SENIOR, EasyAlarm MAN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Babyphone per Telefon: bébétel (Festnetz und Mobil-Betrie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Verkehrsleittechnik (Ampelsteuerun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leitronic.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435640" y="3068640"/>
            <a:ext cx="1295280" cy="103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948360" y="3068640"/>
            <a:ext cx="938520" cy="9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f9f9f"/>
                </a:solidFill>
                <a:latin typeface="Arial"/>
              </a:rPr>
              <a:t>Inhalt</a:t>
            </a: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ufzugs-Notruf im Wandel der 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ormen-Verl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otrufablauf nach EN81-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N81-28 in der Praxis: Verfügbarkeit / Zuverlässig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ervice-Center-Lösung (Beispi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otrufgerät aus Sicht des Montagebetrie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otrufgerät aus Sicht des Aufzugsbetre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armierung über das GSM-Netz (Mobil-Net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gen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7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956720" y="4941720"/>
            <a:ext cx="814320" cy="719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f9f9f"/>
                </a:solidFill>
                <a:latin typeface="Arial"/>
              </a:rPr>
              <a:t>Aufzugs-Notruf im Wandel der Zeit</a:t>
            </a: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775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okaler Alarm mit Glock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&gt; Die Glocke hat sich als Notrufsymbol etabliert und ist in der Norm vorgeschri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lefonhörer hinter zugänglicher Klapp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Telefonnummer (intern/extern) wird durch die eingeschlossene Person selbst gewäh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lefonhörer im Hotline-Modu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Rufnummer ist in der Zentrale gespeicher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&gt; Automatische Wahl der Telefonnummer, sobald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örer abgehoben wi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Freisprechgerä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erbesserung in Design und Bedienung, da i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bleau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eingebau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 heut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isprechgerät, welches die Bestandteile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rm EN81-28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zw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81-7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rfüllt und gegebenenfalls weitere Optionen bieten: Alarmierung von technischen Störungen, Fernwirkmöglichkeiten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72360" y="4149720"/>
            <a:ext cx="719280" cy="722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8172360" y="2421000"/>
            <a:ext cx="719280" cy="690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8172360" y="3284640"/>
            <a:ext cx="719280" cy="71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8" name=""/>
          <p:cNvGrpSpPr/>
          <p:nvPr/>
        </p:nvGrpSpPr>
        <p:grpSpPr>
          <a:xfrm>
            <a:off x="8172360" y="1484280"/>
            <a:ext cx="718920" cy="719280"/>
            <a:chOff x="8172360" y="1484280"/>
            <a:chExt cx="718920" cy="719280"/>
          </a:xfrm>
        </p:grpSpPr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8172360" y="1484280"/>
              <a:ext cx="71892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8322480" y="1628640"/>
              <a:ext cx="388080" cy="44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" descr=""/>
          <p:cNvPicPr/>
          <p:nvPr/>
        </p:nvPicPr>
        <p:blipFill>
          <a:blip r:embed="rId8">
            <a:lum bright="6000"/>
          </a:blip>
          <a:stretch/>
        </p:blipFill>
        <p:spPr>
          <a:xfrm>
            <a:off x="8352000" y="5157720"/>
            <a:ext cx="792000" cy="7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f9f9f"/>
                </a:solidFill>
                <a:latin typeface="Arial"/>
              </a:rPr>
              <a:t>Normen-Verlauf </a:t>
            </a: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uropäische Norm EN81-1/2 (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ach Betätigung der Notrufauslöseeinrichtung dürfen keine weiteren Aktionen des eingeschlossenen Benutzers notwendig werd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Freisprechgerä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s muss ein Ersatzziel gewählt werden können </a:t>
            </a:r>
            <a:br>
              <a:rPr sz="1800"/>
            </a:b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=&gt; Mehrere Rufnummern erforder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ei Ausfall der Stromversorgung muss der Betrieb während einer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ausreichenden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Dauer gewährleistet sein (=&gt; Eine Stun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uropäische Norm EN81-28 (2000/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truffilterung zur Verhinderung von unechten Notruf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Missbrauchsunterdrück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yklischer Test (mind. alle 72h) =&gt; erhöhte Zuverlä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en im Fahrkorb =&gt; Sichtbare und hörbare Sig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uropäische Norm EN81-70 (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Zugänglichkeit von Aufzügen für Personen einschliesslich Personen mit Behind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16360" y="5589720"/>
            <a:ext cx="719280" cy="7189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5651640" y="5589720"/>
            <a:ext cx="1799640" cy="718920"/>
            <a:chOff x="5651640" y="5589720"/>
            <a:chExt cx="1799640" cy="718920"/>
          </a:xfrm>
        </p:grpSpPr>
        <p:grpSp>
          <p:nvGrpSpPr>
            <p:cNvPr id="66" name=""/>
            <p:cNvGrpSpPr/>
            <p:nvPr/>
          </p:nvGrpSpPr>
          <p:grpSpPr>
            <a:xfrm>
              <a:off x="6372000" y="5661000"/>
              <a:ext cx="1079280" cy="576360"/>
              <a:chOff x="6372000" y="5661000"/>
              <a:chExt cx="1079280" cy="576360"/>
            </a:xfrm>
          </p:grpSpPr>
          <p:sp>
            <p:nvSpPr>
              <p:cNvPr id="67" name=""/>
              <p:cNvSpPr/>
              <p:nvPr/>
            </p:nvSpPr>
            <p:spPr>
              <a:xfrm>
                <a:off x="6372000" y="5661000"/>
                <a:ext cx="1079280" cy="55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A=490mm</a:t>
                </a:r>
                <a:r>
                  <a:rPr b="0" lang="de-CH" sz="1200" spc="-1" strike="noStrike" baseline="30000">
                    <a:solidFill>
                      <a:srgbClr val="000000"/>
                    </a:solidFill>
                    <a:latin typeface="Arial"/>
                  </a:rPr>
                  <a:t>2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de-CH" sz="1200" spc="-1" strike="noStrike">
                    <a:solidFill>
                      <a:srgbClr val="000000"/>
                    </a:solidFill>
                    <a:latin typeface="Arial"/>
                  </a:rPr>
                  <a:t>h=90c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06920" y="5877000"/>
                <a:ext cx="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5651640" y="5589720"/>
              <a:ext cx="714240" cy="718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203640" y="5589720"/>
            <a:ext cx="814320" cy="718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3635280" y="5445000"/>
            <a:ext cx="792360" cy="7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75640" y="723960"/>
            <a:ext cx="1800000" cy="15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f9f9f"/>
                </a:solidFill>
                <a:latin typeface="Arial"/>
              </a:rPr>
              <a:t>Notrufablauf nach EN81-28</a:t>
            </a:r>
            <a:endParaRPr b="1" lang="en-US" sz="32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2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geschlossene Person drückt Notruf-T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otrufgerät signalisi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kustisch: z. B. „Notruf aktiviert, dieser wird sofort bearbeitet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EN81-70: zusätzliche Anzeige durch gelbes Pikto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otruffilterung verhindert unechte Notrufe =&gt; Notruf-Abbr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ufzug in Entriegelungszone und Tür vollständig geöff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hrkorb fährt und die Türen öffnen sich beim nächsten Ha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erbindung mit der Notrufzentrale wird he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dentifikation des Fahrkorb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EN81-70: Anzeige der Gesprächsannahme in der Kabine </a:t>
            </a:r>
            <a:br>
              <a:rPr sz="1800"/>
            </a:br>
            <a:r>
              <a:rPr b="0" i="1" lang="de-CH" sz="1800" spc="-1" strike="noStrike">
                <a:solidFill>
                  <a:srgbClr val="000000"/>
                </a:solidFill>
                <a:latin typeface="Arial"/>
              </a:rPr>
              <a:t>durch grünes Pikto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ersönliche Gesprächsführ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Empfangsbestätigung =&gt; Ersatzziele werden nicht angewäh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otrufzentrale bietet Notdienst auf, der die eingeschlossene Person befr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77080" y="765000"/>
            <a:ext cx="817560" cy="722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12000" y="76500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948360" y="1557360"/>
            <a:ext cx="714600" cy="719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7812000" y="765000"/>
            <a:ext cx="792360" cy="719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877080" y="765000"/>
            <a:ext cx="814320" cy="71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7"/>
          <a:stretch/>
        </p:blipFill>
        <p:spPr>
          <a:xfrm>
            <a:off x="6948360" y="1557360"/>
            <a:ext cx="714600" cy="719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67640" y="191628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abl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7885080" y="4292640"/>
            <a:ext cx="719280" cy="722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8028000" y="2997360"/>
            <a:ext cx="936720" cy="81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8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4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15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3500"/>
                            </p:stCondLst>
                            <p:childTnLst>
                              <p:par>
                                <p:cTn id="38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9f9f9f"/>
                </a:solidFill>
                <a:latin typeface="Arial"/>
              </a:rPr>
              <a:t>EN81-28 in der Praxis: </a:t>
            </a:r>
            <a:r>
              <a:rPr b="1" lang="de-CH" sz="2000" spc="-1" strike="noStrike">
                <a:solidFill>
                  <a:srgbClr val="9f9f9f"/>
                </a:solidFill>
                <a:latin typeface="Arial"/>
              </a:rPr>
              <a:t>Verfügbarkeit / Zuverlässigkeit</a:t>
            </a:r>
            <a:endParaRPr b="1" lang="en-US" sz="20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1928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s Notrufsystem muss sich immer in Betrieb befinden, damit der Aufzu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immungsgemäs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benutzt werden da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ichtig während Bauphase, wenn noch kein Amtsanschluss besteh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&gt; Alternative: Alarm über das GSM-Netz (Mobil-Net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Wenn der Telefonanschluss nicht mehr zur Verfügung steht,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muss der Aufzug ausser Betrieb genommen werden =&gt; Betreiber wird haftb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z. B. der Betreiber kündigt den Anschluss oder zahlt die Rechnung nich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Notrufeinheit muss sich so häufig wie erforderlich bei einem Service-Center melden (min. alle 72h).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iese Anrufe müssen protokolliert werd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Anlage muss ausser Betrieb genommen werden, falls der Routine-Ruf ausbleib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=&gt; Meldung des Service-Centers an den Betreiber notwendi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chtung: Falls der Telefonanbieter den Telefonanschluss sperrt, weil der Betreiber die Rechnung nicht bezahlt, ist die Ferneinwahl weiterhin möglich, abgehende Gespräche jedoch nicht =&gt; nur ein 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aktiver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zyklischer Test bringt diese „schwarzen Schafe“ zum Vorsche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otz Routine-Ruf ist eine wiederkehrende, manuelle Prüfung durch Betätigung der Notruftaste erforderlich =&gt;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achantwort der Notdien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000"/>
                            </p:stCondLst>
                            <p:childTnLst>
                              <p:par>
                                <p:cTn id="408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3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200" spc="-1" strike="noStrike">
                <a:solidFill>
                  <a:srgbClr val="9f9f9f"/>
                </a:solidFill>
                <a:latin typeface="Arial"/>
              </a:rPr>
              <a:t>Service-Center-Lösung </a:t>
            </a:r>
            <a:r>
              <a:rPr b="1" lang="de-CH" sz="2400" spc="-1" strike="noStrike">
                <a:solidFill>
                  <a:srgbClr val="9f9f9f"/>
                </a:solidFill>
                <a:latin typeface="Arial"/>
              </a:rPr>
              <a:t>(Beispiel)</a:t>
            </a:r>
            <a:endParaRPr b="1" lang="en-US" sz="2400" spc="-1" strike="noStrike">
              <a:solidFill>
                <a:srgbClr val="9f9f9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65280" y="1600200"/>
            <a:ext cx="3182760" cy="4421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84560" y="1599840"/>
            <a:ext cx="505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Service-Center-Lösung WinMOS basiert auf einem Windows-PC inkl. ISDN-Kar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Verwaltungsprogramm beinhalt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gegennahme und Protokollierung von Notrufen (automatische Identifikation des Standorts und Ansteuerung der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Piktogramme in der Kabin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tomatisierte Ferneinwahl bei fälligen Rückrufen nach einem Notru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waltung der Routine-Anrufe na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81-28 (max. 72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Falls der Routine-Ruf ausbleibt, versucht WinMOS das Gerät nochmals zu aktivi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Falls diese Aufforderung nicht erfolgreich ist =&gt; Info auf Drucker / per SMS / per 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terstützung der Benutzer bei allen Interak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87640" y="1989000"/>
            <a:ext cx="34308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3068640"/>
            <a:ext cx="34272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4653000"/>
            <a:ext cx="343080" cy="342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19640" y="3500280"/>
            <a:ext cx="342720" cy="3430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9704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9f9f9f"/>
                </a:solidFill>
                <a:latin typeface="Arial"/>
              </a:rPr>
              <a:t>Notrufgerät aus Sicht des Montagebetriebes</a:t>
            </a:r>
            <a:endParaRPr b="1" lang="en-US" sz="2800" spc="-1" strike="noStrike">
              <a:solidFill>
                <a:srgbClr val="9f9f9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fache Bedienu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. B. integrierte Tastatu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fache Benutzerführung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achbegleitet mit Klartextan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gebaute Selbsttest-Funktione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leichtert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Universell einsetzbar / grosse Zubehörpalet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ptimiert für Neuanlagen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DC)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/ Nachrüstungen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230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schinenraumsprechstelle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&gt;30m Förderhö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uerwehrsprechstell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EN81-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eite Sprechst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ompetenter und flexibler Notrufgeräteherstel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380360" y="3860640"/>
            <a:ext cx="1365120" cy="12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achtagung Aufzugsverein SAV-ASA vom 3. Mai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8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0:09:25Z</dcterms:created>
  <dc:creator>Silvan Tognella</dc:creator>
  <dc:description/>
  <dc:language>en-US</dc:language>
  <cp:lastModifiedBy>Silvan Tognella</cp:lastModifiedBy>
  <dcterms:modified xsi:type="dcterms:W3CDTF">2006-05-02T14:13:53Z</dcterms:modified>
  <cp:revision>247</cp:revision>
  <dc:subject/>
  <dc:title>Stand der Technik von Notrufeinrichtungen</dc:title>
</cp:coreProperties>
</file>