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jpeg" ContentType="image/jpeg"/>
  <Override PartName="/ppt/media/image24.wmf" ContentType="image/x-wmf"/>
  <Override PartName="/ppt/media/image23.gif" ContentType="image/gif"/>
  <Override PartName="/ppt/media/image3.jpeg" ContentType="image/jpeg"/>
  <Override PartName="/ppt/media/image15.png" ContentType="image/png"/>
  <Override PartName="/ppt/media/image22.png" ContentType="image/png"/>
  <Override PartName="/ppt/media/image20.wmf" ContentType="image/x-wmf"/>
  <Override PartName="/ppt/media/image18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A19-D564-4E9D-A16B-E9AAA25E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117-3CB9-44A9-A9F3-92478447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0BE-2F2F-4B6F-A0D5-889B4572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84A-E6B3-468B-9602-477DDB01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C60-6326-4B7B-AE43-DF9A12B6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060-11A5-4CA5-A8C8-F8CCE5CE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559-C273-4FBD-9960-3B80E1C4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B8C-69A8-49D0-9ADD-54C0C1AC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9704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A6F-D4AA-411F-8D05-67D98BFD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93C-2C35-4EC7-A684-156FCC8C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0B6-CF60-441F-9DBD-421DED8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AD1-20E4-45AA-BB5F-1DC199B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f9f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68E4-5D03-4EEE-B167-24013243195D}" type="datetime">
              <a:rPr b="0" lang="de-DE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ww.leitronic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640" y="6308280"/>
            <a:ext cx="5400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9f9f9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9f9f9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00F7-2362-48BE-A1D1-27DF4C33A34F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28000" y="6027840"/>
            <a:ext cx="468360" cy="641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518240" y="6197760"/>
            <a:ext cx="468360" cy="46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itronic.ch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image" Target="../media/image6.png"/><Relationship Id="rId7" Type="http://schemas.openxmlformats.org/officeDocument/2006/relationships/image" Target="../media/image17.png"/><Relationship Id="rId8" Type="http://schemas.openxmlformats.org/officeDocument/2006/relationships/image" Target="../media/image7.png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8469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f9f9f"/>
                </a:solidFill>
                <a:latin typeface="Arial"/>
              </a:rPr>
              <a:t>Stand der Technik von Notrufeinrichtungen </a:t>
            </a:r>
            <a:br>
              <a:rPr sz="3200"/>
            </a:br>
            <a:r>
              <a:rPr b="1" lang="en-US" sz="3200" spc="-1" strike="noStrike">
                <a:solidFill>
                  <a:srgbClr val="9f9f9f"/>
                </a:solidFill>
                <a:latin typeface="Arial"/>
              </a:rPr>
              <a:t>gemäss SE EN81-28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920" y="393336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ACHTA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Schweizerischer Aufzugsver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SAV-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24000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9f9f9f"/>
                </a:solidFill>
                <a:latin typeface="Arial"/>
              </a:rPr>
              <a:t>Notrufgerät aus Sicht des Aufzugbetreibers</a:t>
            </a:r>
            <a:endParaRPr b="1" lang="en-US" sz="28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fene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Betreiber kann das Notrufsystem beibehalten, auch wenn er die Servicefirma wechselt =&gt; Freiheit bei der Aufschaltung!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ielseitige Identifikationsmög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prachansage (z. B. individueller Ansagetext oder Kommissions-N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otokoll mit Service-Center (z. B. Win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otokoll mit Alarmcenter nach internationalem Standard (z. B. Ademc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imierung der Fix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allelbetrieb von Notrufgeräten an einem Telefonanschl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elle Notrufgeräte teilen das Amt mit einem bestehenden Anschluss (z. B. Telefon/Fax des Hauswarts oder Modem der Liftsteuerung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urchschlaufen des Amtsanschlusses durch das Notruf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er Notruf hat Priorität und das Notrufgerät trennt bei Bedarf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eine bestehend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verlässige und bewährte Notrufgeräte, damit der Aufzug jederzeit betrieben werden k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48360" y="4365720"/>
            <a:ext cx="3025800" cy="573120"/>
            <a:chOff x="5148360" y="4365720"/>
            <a:chExt cx="3025800" cy="573120"/>
          </a:xfrm>
        </p:grpSpPr>
        <p:sp>
          <p:nvSpPr>
            <p:cNvPr id="99" name=""/>
            <p:cNvSpPr/>
            <p:nvPr/>
          </p:nvSpPr>
          <p:spPr>
            <a:xfrm>
              <a:off x="6948720" y="47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148360" y="4365720"/>
              <a:ext cx="3025800" cy="573120"/>
              <a:chOff x="5148360" y="4365720"/>
              <a:chExt cx="3025800" cy="57312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58160" y="4365720"/>
                <a:ext cx="792000" cy="52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453440" y="4389480"/>
                <a:ext cx="720720" cy="54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5148360" y="44370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800" spc="-1" strike="noStrike">
                    <a:solidFill>
                      <a:srgbClr val="000000"/>
                    </a:solidFill>
                    <a:latin typeface="Arial"/>
                  </a:rPr>
                  <a:t>Am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37440" y="472608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7020000" y="4581360"/>
            <a:ext cx="287280" cy="287640"/>
            <a:chOff x="7020000" y="4581360"/>
            <a:chExt cx="287280" cy="287640"/>
          </a:xfrm>
        </p:grpSpPr>
        <p:sp>
          <p:nvSpPr>
            <p:cNvPr id="106" name=""/>
            <p:cNvSpPr/>
            <p:nvPr/>
          </p:nvSpPr>
          <p:spPr>
            <a:xfrm>
              <a:off x="7020000" y="4581360"/>
              <a:ext cx="287280" cy="28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020000" y="4581360"/>
              <a:ext cx="287280" cy="28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9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f9f9f"/>
                </a:solidFill>
                <a:latin typeface="Arial"/>
              </a:rPr>
              <a:t>Alarmierung über das GSM-Netz (Mobil-Netz)</a:t>
            </a:r>
            <a:endParaRPr b="1" lang="en-US" sz="28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07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Notruf über GSM ist eine kostengünstige Alternative zum Festnetz und der Aufzug kann schon während der Bauphase betrieben werde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och sind bezüglich der Verfügbarkeit /Zuverlässigkeit folgende Punkte zu beach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-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ndort der GSM-Antenne muss fix sei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z. B. im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schinenraum). Damit ist eine stabile Empfangssituatio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ährleistet =&gt; Das Mitfahren auf der Kabine ist gefährlich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 der Empfang je nach Standort der Kabine variiert bzw. i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Tiefgarage sogar total ausfallen k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lls der GSM-Empfang ungenügend ist bzw. ganz ausfällt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die Anlage automatisch ausser Betrieb gesetzt we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z. B. Befehl an die Liftsteuerung ins Erdgeschoss zu fa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sicht bei 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ai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Karten!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gebenenfalls ist im Alarmfall kein Guthaben vorhand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Abonnement oder automatische Nachladu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Anregung an den Ver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 Sicht der Aufzugsbetreiber wäre ein spezielles Notruf-A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 B. mit Flatrate wünschensw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405560" y="2492280"/>
            <a:ext cx="173844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Fragen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wem möchten Sie lieber im Lift stecken bleibe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40000" y="2205000"/>
            <a:ext cx="162396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1640" y="4653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oder            </a:t>
            </a: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rcRect l="31215" t="12461" r="29396" b="21258"/>
          <a:stretch/>
        </p:blipFill>
        <p:spPr>
          <a:xfrm>
            <a:off x="5148360" y="2205000"/>
            <a:ext cx="1312920" cy="3313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7164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7000"/>
                            </p:stCondLst>
                            <p:childTnLst>
                              <p:par>
                                <p:cTn id="6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000"/>
                            </p:stCondLst>
                            <p:childTnLst>
                              <p:par>
                                <p:cTn id="6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Kurzinformation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f9f9f"/>
                </a:solidFill>
                <a:latin typeface="Arial"/>
              </a:rPr>
              <a:t>RE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ilvan Togn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-Ing. HT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führer bei Leitronic AG seit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f9f9f"/>
                </a:solidFill>
                <a:latin typeface="Arial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ronic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ündung: 1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andort: Zufi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ung und Fabrikation industrieller Elektronik mit Schwerpun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algeräte im Zentralenbereich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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161, Prüfgeräte, Ausfallschutzsyste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elefonalarm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ufzugsnotruf: EasyAlarm ELEVATOR, EXICALL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Personenschutz: EasyAlarm SENIOR, EasyAlarm MAN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Babyphone per Telefon: bébétel (Festnetz und Mobil-Betri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Verkehrsleittechnik (Ampelsteuer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eitronic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35640" y="3068640"/>
            <a:ext cx="1295280" cy="103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948360" y="3068640"/>
            <a:ext cx="93852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ufzugs-Notruf im Wandel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ormen-Verl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otrufablauf nach EN81-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N81-28 in der Praxis: Verfügbarkeit / Zuverläss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rvice-Center-Lösung (Beispi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otrufgerät aus Sicht des Montagebetrie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otrufgerät aus Sicht des Aufzugsbetre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armierung über das GSM-Netz (Mobil-Ne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956720" y="4941720"/>
            <a:ext cx="814320" cy="71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Aufzugs-Notruf im Wandel der Zeit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kaler Alarm mit Glock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&gt; Die Glocke hat sich als Notrufsymbol etabliert und ist in der Norm vorgeschri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lefonhörer hinter zugänglicher Klapp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Telefonnummer (intern/extern) wird durch die eingeschlossene Person selbst gewäh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lefonhörer im Hotline-Modu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Rufnummer ist in der Zentrale gespeicher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&gt; Automatische Wahl der Telefonnummer, sobald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rer abgehoben w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Freisprechger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erbesserung in Design und Bedienung, da i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eingebau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 heut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sprechgerät, welches die Bestandteil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 EN81-28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zw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81-7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füllt und gegebenenfalls weitere Optionen bieten: Alarmierung von technischen Störungen, Fernwirkmöglichkeite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72360" y="4149720"/>
            <a:ext cx="719280" cy="722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8172360" y="2421000"/>
            <a:ext cx="719280" cy="690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8172360" y="3284640"/>
            <a:ext cx="719280" cy="71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8172360" y="1484280"/>
            <a:ext cx="718920" cy="719280"/>
            <a:chOff x="8172360" y="1484280"/>
            <a:chExt cx="718920" cy="71928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8172360" y="1484280"/>
              <a:ext cx="71892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8322480" y="1628640"/>
              <a:ext cx="388080" cy="44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8352000" y="5157720"/>
            <a:ext cx="79200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Normen-Verlauf 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ropäische Norm EN81-1/2 (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Betätigung der Notrufauslöseeinrichtung dürfen keine weiteren Aktionen des eingeschlossenen Benutzers notwendig werd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Freisprechgerä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s muss ein Ersatzziel gewählt werden können </a:t>
            </a:r>
            <a:br>
              <a:rPr sz="1800"/>
            </a:b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=&gt; Mehrere Rufnummern erforder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ei Ausfall der Stromversorgung muss der Betrieb während einer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ausreichend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Dauer gewährleistet sein (=&gt; Eine Stun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ropäische Norm EN81-28 (2000/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truffilterung zur Verhinderung von unechten Notruf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Missbrauchsunterdrüc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yklischer Test (mind. alle 72h) =&gt; erhöhte Zuverlä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im Fahrkorb =&gt; Sichtbare und hörbare Sig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ropäische Norm EN81-70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Zugänglichkeit von Aufzügen für Personen einschliesslich Personen mit Behind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6360" y="5589720"/>
            <a:ext cx="719280" cy="7189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5651640" y="5589720"/>
            <a:ext cx="1799640" cy="718920"/>
            <a:chOff x="5651640" y="5589720"/>
            <a:chExt cx="1799640" cy="718920"/>
          </a:xfrm>
        </p:grpSpPr>
        <p:grpSp>
          <p:nvGrpSpPr>
            <p:cNvPr id="66" name=""/>
            <p:cNvGrpSpPr/>
            <p:nvPr/>
          </p:nvGrpSpPr>
          <p:grpSpPr>
            <a:xfrm>
              <a:off x="6372000" y="5661000"/>
              <a:ext cx="1079280" cy="576360"/>
              <a:chOff x="6372000" y="5661000"/>
              <a:chExt cx="1079280" cy="576360"/>
            </a:xfrm>
          </p:grpSpPr>
          <p:sp>
            <p:nvSpPr>
              <p:cNvPr id="67" name=""/>
              <p:cNvSpPr/>
              <p:nvPr/>
            </p:nvSpPr>
            <p:spPr>
              <a:xfrm>
                <a:off x="6372000" y="5661000"/>
                <a:ext cx="107928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A=490mm</a:t>
                </a:r>
                <a:r>
                  <a:rPr b="0" lang="de-CH" sz="1200" spc="-1" strike="noStrike" baseline="30000">
                    <a:solidFill>
                      <a:srgbClr val="000000"/>
                    </a:solidFill>
                    <a:latin typeface="Arial"/>
                  </a:rPr>
                  <a:t>2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h=90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06920" y="587700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5651640" y="5589720"/>
              <a:ext cx="714240" cy="71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203640" y="5589720"/>
            <a:ext cx="814320" cy="71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635280" y="5445000"/>
            <a:ext cx="792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75640" y="723960"/>
            <a:ext cx="1800000" cy="15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Notrufablauf nach EN81-28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2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geschlossene Person drückt Notruf-T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otrufgerät signalis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kustisch: z. B. „Notruf aktiviert, dieser wird sofort bearbeite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EN81-70: zusätzliche Anzeige durch gelbes Pikt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otruffilterung verhindert unechte Notrufe =&gt; Notruf-Abbr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ufzug in Entriegelungszone und Tür vollständig geöff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hrkorb fährt und die Türen öffnen sich beim nächsten Ha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erbindung mit der Notrufzentrale wird he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dentifikation des Fahrkorb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EN81-70: Anzeige der Gesprächsannahme in der Kabine </a:t>
            </a:r>
            <a:br>
              <a:rPr sz="1800"/>
            </a:b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durch grünes Pikt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ersönliche Gesprächsfüh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mpfangsbestätigung =&gt; Ersatzziele werden nicht angewäh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otrufzentrale bietet Notdienst auf, der die eingeschlossene Person befr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77080" y="765000"/>
            <a:ext cx="817560" cy="72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12000" y="76500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948360" y="1557360"/>
            <a:ext cx="714600" cy="719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812000" y="76500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877080" y="765000"/>
            <a:ext cx="814320" cy="71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948360" y="1557360"/>
            <a:ext cx="714600" cy="719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67640" y="19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abl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885080" y="4292640"/>
            <a:ext cx="719280" cy="72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8028000" y="299736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3500"/>
                            </p:stCondLst>
                            <p:childTnLst>
                              <p:par>
                                <p:cTn id="38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9f9f9f"/>
                </a:solidFill>
                <a:latin typeface="Arial"/>
              </a:rPr>
              <a:t>EN81-28 in der Praxis: </a:t>
            </a:r>
            <a:r>
              <a:rPr b="1" lang="de-CH" sz="2000" spc="-1" strike="noStrike">
                <a:solidFill>
                  <a:srgbClr val="9f9f9f"/>
                </a:solidFill>
                <a:latin typeface="Arial"/>
              </a:rPr>
              <a:t>Verfügbarkeit / Zuverlässigkeit</a:t>
            </a:r>
            <a:endParaRPr b="1" lang="en-US" sz="20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9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otrufsystem muss sich immer in Betrieb befinden, damit der Aufzu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immungsgemäs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nutzt werden 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chtig während Bauphase, wenn noch kein Amtsanschluss besteh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Alternative: Alarm über das GSM-Netz (Mobil-Ne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der Telefonanschluss nicht mehr zur Verfügung steht,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muss der Aufzug ausser Betrieb genommen werden =&gt; Betreiber wird haftb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z. B. der Betreiber kündigt den Anschluss oder zahlt die Rechnung nich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Notrufeinheit muss sich so häufig wie erforderlich bei einem Service-Center melden (min. alle 72h).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iese Anrufe müssen protokollier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nlage muss ausser Betrieb genommen werden, falls der Routine-Ruf ausbleib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=&gt; Meldung des Service-Centers an den Betreiber notwendi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chtung: Falls der Telefonanbieter den Telefonanschluss sperrt, weil der Betreiber die Rechnung nicht bezahlt, ist die Ferneinwahl weiterhin möglich, abgehende Gespräche jedoch nicht =&gt; nur ein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aktiver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zyklischer Test bringt diese „schwarzen Schafe“ zum Vorsch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otz Routine-Ruf ist eine wiederkehrende, manuelle Prüfung durch Betätigung der Notruftaste erforderlich =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achantwort der Notdien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Service-Center-Lösung </a:t>
            </a:r>
            <a:r>
              <a:rPr b="1" lang="de-CH" sz="2400" spc="-1" strike="noStrike">
                <a:solidFill>
                  <a:srgbClr val="9f9f9f"/>
                </a:solidFill>
                <a:latin typeface="Arial"/>
              </a:rPr>
              <a:t>(Beispiel)</a:t>
            </a:r>
            <a:endParaRPr b="1" lang="en-US" sz="2400" spc="-1" strike="noStrike">
              <a:solidFill>
                <a:srgbClr val="9f9f9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65280" y="1600200"/>
            <a:ext cx="3182760" cy="4421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84560" y="1599840"/>
            <a:ext cx="505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ervice-Center-Lösung WinMOS basiert auf einem Windows-PC inkl. ISDN-Ka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Verwaltungsprogramm beinhalt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gegennahme und Protokollierung von Notrufen (automatische Identifikation des Standorts und Ansteuerung der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iktogramme in der Kab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isierte Ferneinwahl bei fälligen Rückrufen nach einem Notru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waltung der Routine-Anrufe na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81-28 (max. 72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Falls der Routine-Ruf ausbleibt, versucht WinMOS das Gerät nochmals zu aktiv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Falls diese Aufforderung nicht erfolgreich ist =&gt; Info auf Drucker / per SMS / per 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ung der Benutzer bei allen Interak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1989000"/>
            <a:ext cx="34308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3068640"/>
            <a:ext cx="34272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4653000"/>
            <a:ext cx="34308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3500280"/>
            <a:ext cx="34272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9f9f9f"/>
                </a:solidFill>
                <a:latin typeface="Arial"/>
              </a:rPr>
              <a:t>Notrufgerät aus Sicht des Montagebetriebes</a:t>
            </a:r>
            <a:endParaRPr b="1" lang="en-US" sz="28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ache Bedien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 B. integrierte Tastatu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ache Benutzerführ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achbegleitet mit Klartextan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baute Selbsttest-Funktione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eichtert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versell einsetzbar / grosse Zubehörpale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ptimiert für Neuanlage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DC)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/ Nachrüstunge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230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chinenraumsprechstell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&gt;30m Förderhö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uerwehrsprechstell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N81-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te Sprechst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petenter und flexibler Notrufgeräteherste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80360" y="3860640"/>
            <a:ext cx="1365120" cy="12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0:09:25Z</dcterms:created>
  <dc:creator>Silvan Tognella</dc:creator>
  <dc:description/>
  <dc:language>en-US</dc:language>
  <cp:lastModifiedBy>Silvan Tognella</cp:lastModifiedBy>
  <dcterms:modified xsi:type="dcterms:W3CDTF">2006-05-02T14:13:53Z</dcterms:modified>
  <cp:revision>247</cp:revision>
  <dc:subject/>
  <dc:title>Stand der Technik von Notrufeinrichtungen</dc:title>
</cp:coreProperties>
</file>